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75B6-E87B-4262-A1E6-EECD1B6B1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55A2-20D1-4250-9073-57F37A827A4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D69-0FB6-4815-829E-B6AD9A8E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A07-D808-49E3-8EDA-17D7AD89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0710-B2CF-4F3F-8AA2-0FFF62F9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8DF-E4D1-4247-B5F3-B6B1BAE5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7DCD-8F32-4027-9C3E-0682FF0A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9D75-2704-4C89-8B22-E349D61D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AF69-B523-479B-96E3-B5797FA4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60FC-8342-4EE7-953E-A420F3FD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DF4D-BEF9-47EB-BB83-79524AC6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EBA4-2914-45CB-8915-348D8801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8248-2249-409E-8B7B-BF076843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7005-3E99-4BB5-9CE0-EDB98EA8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03D5-9CFE-42C2-97C5-1106B004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2B17-E62E-4287-9D39-5E911CBC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FFFC-31AB-43A1-9AD4-E724EEAA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E6D3-2F56-47C7-A6A2-F1F10B4B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FF06-9022-494A-BFA9-0A2DEFAD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EEC5-5FB1-4FED-BCE8-F3722876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6E8-0B42-4D84-897B-26F5464C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4A2-006C-4D37-BE4D-6EE0C341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E5E-5B85-4052-BAC1-D4B54BC5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E6D-B254-4461-8CD4-80D809A7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98C-AB21-42EF-AE35-6B23F617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2FB-AD17-4D31-9EFB-25B374F4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67E5-A4F6-48B0-AC78-BB0AB26EAAC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EBBF-8D93-4B17-9956-8C2DE66BDCC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h/henryford106096.html" TargetMode="External"/><Relationship Id="rId2" Type="http://schemas.openxmlformats.org/officeDocument/2006/relationships/hyperlink" Target="http://www.brainyquote.com/quotes/quotes/s/stevejobs126246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37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590920" y="4952880"/>
            <a:ext cx="6400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ack Williams, Dire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04920" y="380880"/>
            <a:ext cx="1600200" cy="1600200"/>
          </a:xfrm>
          <a:prstGeom prst="rect">
            <a:avLst/>
          </a:prstGeom>
          <a:solidFill>
            <a:srgbClr val="9f9d4f"/>
          </a:solidFill>
          <a:ln w="0">
            <a:noFill/>
          </a:ln>
          <a:effectLst>
            <a:outerShdw dist="222200" dir="8939309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A 3004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e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njo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ursing Home MDS – June 199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me Health OASIS – August 19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patient Rehab Facility PAI – Januar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ng Bed MDS – Jul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ng Term Care Hospital CDS – October 20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tal Assessments (through 04/25/12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220,0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 ~163,5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4,7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verage Monthly Assessments Ad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1,6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~1,1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38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A 300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as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blic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sessment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ealthcare Acquired Infections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m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ffice of Clinical Standards and 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id and CHIP Ser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s for Disease Control and Prevention – CD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jo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arbor Plac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aryland Science Cent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Aquari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Maritime Muse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ood Eat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www.baltimore.or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 means doing it right when no one is looking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1"/>
              </a:rPr>
              <a:t>Henry F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 a yardstick of quality. Some people aren't used to an environment where excellence is expected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2"/>
              </a:rPr>
              <a:t>Steve Job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8:08Z</dcterms:created>
  <dc:creator>IFMC Employee</dc:creator>
  <dc:description/>
  <dc:language>en-US</dc:language>
  <cp:lastModifiedBy>Jennifer Parrish</cp:lastModifiedBy>
  <dcterms:modified xsi:type="dcterms:W3CDTF">2012-05-11T11:47:03Z</dcterms:modified>
  <cp:revision>65</cp:revision>
  <dc:subject/>
  <dc:title>QIES Year in Review -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5215944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